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F0B-6AAD-48AF-B426-A418816D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719-50B7-4E9C-A3FF-CC1513C7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469-2395-4C53-802A-8C250133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F4F-4064-4A93-A01E-6ADA93F0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2D2-E973-4131-8FF8-3F7C1381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FAB-5F57-459B-88CF-89ECE710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66C-21AC-47B5-8FF9-2A6ED31E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78C-29A5-4809-B122-42E2E53F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515-19C2-401D-9E16-83B09347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02E-36A7-4E2E-A493-C9500B12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293-8222-4DAF-81F9-F4CAA453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FE5-B54F-42B4-B9AD-7C7354E2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15DE-A16B-491E-B859-1711FC2ACC5F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181080"/>
            <a:ext cx="8839440" cy="6634080"/>
            <a:chOff x="152280" y="181080"/>
            <a:chExt cx="8839440" cy="6634080"/>
          </a:xfrm>
        </p:grpSpPr>
        <p:sp>
          <p:nvSpPr>
            <p:cNvPr id="6" name=""/>
            <p:cNvSpPr/>
            <p:nvPr/>
          </p:nvSpPr>
          <p:spPr>
            <a:xfrm>
              <a:off x="152280" y="60336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157320" y="6357960"/>
            <a:ext cx="244764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320" y="6357960"/>
                      <a:ext cx="24476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152280" y="624852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5720" y="6327720"/>
              <a:ext cx="18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181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35760" y="293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DIgitalNetworkingLeader글자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2666880" cy="585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862360" y="4932360"/>
            <a:ext cx="3462120" cy="901800"/>
            <a:chOff x="2862360" y="4932360"/>
            <a:chExt cx="3462120" cy="901800"/>
          </a:xfrm>
        </p:grpSpPr>
        <p:graphicFrame>
          <p:nvGraphicFramePr>
            <p:cNvPr id="52" name=""/>
            <p:cNvGraphicFramePr/>
            <p:nvPr/>
          </p:nvGraphicFramePr>
          <p:xfrm>
            <a:off x="2862360" y="4932360"/>
            <a:ext cx="3429000" cy="80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4932360"/>
                      <a:ext cx="3429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733920" y="5497560"/>
              <a:ext cx="259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62320" y="2133720"/>
            <a:ext cx="579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xt Generation Communication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S1000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325760" y="450684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003.04.2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098400" y="76212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System Monitoring &amp; Tr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990720"/>
            <a:ext cx="87631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ystem Restar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s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ex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ate:2002-01-25,time:09:31:47,counter:f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exception:  address err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pc   = 0110f6f4 sr  = 200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usp = 010014ea msp = 00000000 isp = 01fb62f4 vbr = 01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fc  = 00000007 dfc   = 0000000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0   = 00000005 d1   = 00000001 d2  = 00000002 d3  = 0000000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4   = 00000002 d5   = 00000000 d6  = 00000000 d7  = 00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0   = 01fb6414 a1    = 01fb630c a2  = 00000001 a3  = 01fb640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4   = 01fb63a0 a5    = 0112de66 a6  = 01fb641c a7  = 01fb62f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setflag 8 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dx=8 : System Last Message Debug : En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syslst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ystem Last Message Save : PB Event : Len=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0020118f020000000000000000003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819000"/>
            <a:ext cx="876312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ystem Watch Do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s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 lst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pointer = 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No Pno MS SS rel  CM CS cpt  PB 01 02 DV FC 00 01 02 03 04 05 06 07 08 09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=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0 040 01 00 000  ff ff 000  00 00 40 00 90 33 09 98 01 47 8e 88 01 47 81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ff        16 aa ff ff ff ff ff ff ff ff ff ff ff 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1 040 01 03 000  ff ff 000  00 00 40 00 90 14 09 98 01 47 8e 88 01 47 81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ff        16 aa ff ff ff ff ff ff ff ff ff ff ff 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85800"/>
            <a:ext cx="8763120" cy="54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Port Block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 evtms port_n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Port = 020  In pointer =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No  MS SS relp   CM CS cptr   PB 01 02 DV FC 00 01 02 03 04 05 06 07 08 09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0  00 00 0000   ff ff 0000   05 00 62 0b 20 01 01 01 18 00 01 00 01 10 00 4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1  00 00 0000   ff ff 0000   00 00 62 00 06 00 00 00 62 00 00 00 00 00 40 0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 04 00 4001   05 00 0062   05 00 62 0b 12 00 01 01 e6 3e f2 01 97 7c 00 5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3  06 00 4001   06 00 0062   05 00 62 0b 11 00 01 01 e6 3e f2 01 97 7c 00 5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4  00 00 0000   ff ff 0000   05 00 62 0b 12 00 01 0a ca 3e b8 01 0a 8a ca 5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5  02 00 0000   ff ff 0000   05 00 62 0b 14 00 0a 8a ca fe 01 0a 8a 01 00 8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6  02 00 0000   ff ff 0000   05 00 62 0b 15 0a 00 14 00 0a 8a ca fe 01 0a f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7  02 05 0081   05 00 0062   05 00 62 0b 15 01 00 01 81 ca 3e 14 01 01 81 5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8  02 06 0081   05 00 0062   05 00 62 0b 15 06 00 06 86 ca 3e 14 01 06 86 3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9  02 06 0081   05 00 0062   05 00 62 0b 15 0a 00 0a 8a ca 3e 14 01 0a 8a 2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0  02 06 0081   05 00 0062   05 00 62 0b 15 0a 00 0a 8a ca 3e 14 01 0a 8a 2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1  02 06 0081   05 50 0062   00 00 62 00 0f 00 00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2  02 4b 0081   07 00 0062   00 00 62 00 70 ff ff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3  05 00 0081   07 00 0062   00 00 62 00 90 08 09 98 01 48 07 30 01 47 f7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4  05 00 0081   08 00 0062   00 00 62 00 02 81 00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5  06 00 0081   08 00 0062   05 00 62 0b 11 00 01 01 e6 3e f2 01 97 7c 00 5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610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VMS Service Fai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SIO and execute the following command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1e (En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VMS Status(184&lt;-1be) mr=0,sb=11,c=ff,rv=ff,cfwd=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uto ATD Svc(0184) cause=9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VMS DTMF Sending Info(vms_pno 0184, send_buf[b2 a1 5f ff ff ff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0 (Disable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MDA Service Fai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18 (En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[SMDA Result:Serial_NO(0000)]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Current Time : 2002/01/28 05:30: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Use Telno : 1aa1ff    Used Line : 008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Out Digit(Local:2)=1aa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tart Time : 2002/01/28 05:30:02  End Time : 2002/01/28 05:30: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Metering Units = 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0 (Dis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dqh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# Fname =   pmstx.dq  in-p = 1  out-p = 0       64 * 2710 : PMS T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9480" y="9036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762120"/>
            <a:ext cx="876312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files in DiskOnChi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 : delete the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r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1 file_name2 : rename the file_name1 to file_nam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op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1 file_name2 : copy the file_name1 to file_nam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or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s0: DiskOnChip forma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etc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-d(c) : display(change) network configur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address : display the value of the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address : change the value of the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address current_value new_value    : change the val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address current_value .                    : exit to chang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qh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*(q_number) : display all kinds of system queue(the queue) status. (Local command, Local event…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qd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out_point count q_number : display the queue content from  in_point to in_point + cou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qh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*(q_number) : display all kinds of disk queue(the queue) status. (fault.dq, pmstx.dq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qd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out_point count q_number : display the disk content from  in_point to in_point + cou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cal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to call monit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280" y="9036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ALL Level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685800"/>
            <a:ext cx="87631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return to system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pmv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display the version of active cpm.im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vdv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display the device identification value(device_id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tl a(port_no1 port_no2 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all call message(from the port_no1 to the port_no2 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tl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v device_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the devi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v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lin port_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port statu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lis port_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ports status from port_no to port_no + 32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itl c(f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ISDN L3 message by complete mode(flow mod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itl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qtl c(f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QSIG L3 message by complete mode(flow mod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qtl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prir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 : start PRI RESTART PROCEDURE of the slot including the port_no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1280" y="9036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ALL Level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809640"/>
            <a:ext cx="8763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mbwsw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make nailed swi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bwsw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cur nailed swi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system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sw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switch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b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data base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BD00028_" descr=""/>
          <p:cNvPicPr/>
          <p:nvPr/>
        </p:nvPicPr>
        <p:blipFill>
          <a:blip r:embed="rId1"/>
          <a:stretch/>
        </p:blipFill>
        <p:spPr>
          <a:xfrm>
            <a:off x="4826160" y="2004840"/>
            <a:ext cx="3708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9480" y="90360"/>
            <a:ext cx="50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witch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809640"/>
            <a:ext cx="876312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a(group_no) : display all(group_no) switch matrix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make both way switch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cut both way switch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r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make one way switch from port_no2 to port_no1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r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cut one way switch from port_no2 to port_no1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gain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tmf_rx_gain port_rx_gain : set dtmf(0x00 ~ 0x1F) receive gain and ports(0x20 ~ 0x3FF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ceive gai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_SWM&gt;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call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BD05679_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25146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200" y="9036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ata Base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809640"/>
            <a:ext cx="8763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*                 : display all data base start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characters : display the data base start address including the character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t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ata_base_name[index] : display the data base value by the index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_DB&gt;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call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HM00363_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3456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400" y="90360"/>
            <a:ext cx="52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the Switching status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801720"/>
            <a:ext cx="510516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CS-SWM&gt; vgs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    1    2     3    4     5    6    7       8    9    a     b    c     d    e    f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0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1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20   xxx xxx xxx 040 xxx xxx xxx xxx   xxx xxx xxx xxx xxx xxx xxx xxx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3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40   023 xxx xxx xxx xxx xxx xxx 08a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5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6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70   xxx xxx xxx xxx xxx xxx xxx xxx   xxx xxx xxx xxx xxx xxx xxx xxx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80   xxx xxx xxx xxx xxx xxx xxx xxx   xxx xxx 047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9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a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b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c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d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e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f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886040"/>
            <a:ext cx="259092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system tone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00 ~ 0x0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DTMF send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10 ~ 0x1f(T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DTMF Receiv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00 ~ 0x2f(R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on conversat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23 port and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새굴림"/>
              </a:rPr>
              <a:t> 0x40 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47 port and 0x8a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6960" y="90360"/>
            <a:ext cx="48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call trace mes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685800"/>
            <a:ext cx="746784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[ Format 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E042 &lt;DE-&gt;CA&gt;   [0b][12] Off_Hook.......     [00/00] 00 01 02 f6 6a 9c 01 02 82 f6 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E042 &lt;CA-&gt;DE&gt;   [0b][97] Receive Digits.   [00/00] ff ff ff ff ff ff ff ff ff ff 2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752480"/>
            <a:ext cx="2286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Additional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05740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Sub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2362320"/>
            <a:ext cx="2743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ain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2666880"/>
            <a:ext cx="4038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Descri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971800"/>
            <a:ext cx="4267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276720"/>
            <a:ext cx="4572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Device 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581280"/>
            <a:ext cx="5410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886200"/>
            <a:ext cx="5715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Port Number(port_no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191120"/>
            <a:ext cx="5867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Type of the port_n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600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600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600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6002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876920"/>
            <a:ext cx="8381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* Message Direction :AE(SLT), DE(DTEL), AD(ATD), WT(DECT), W2(DECT2), CO(APTC), RE(ALT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T(DNIC-DTC), MF(DTMF), BS(PRI/BRI), VP(VPM), IP(VOIP), TM(TIMER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* Type of the port_no : E(Extension), T(Trunk), P(PRI/BRIT/QSIG), B(BRI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400" y="90360"/>
            <a:ext cx="65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ISDN/QSIG L3 trace mes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762120"/>
            <a:ext cx="80010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BX                                                       N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Q_SETUP       (QT:0122 S:00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---------------------------------------------------&gt;| 00000708 0201b405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SAPI=00 TEI=00 CRL=02 CR=01b4   | 04038090 a31803a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83826c06 008132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30317005 c93130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I_ALERTING            (PT:0081 S:03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00000808 02819801 |&lt;---------------------------------------------------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803a983 81              |  SAPI=00 TEI=00 CRL=02 CR=8198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Q_RELEASE        (QT:0122 S:01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---------------------------------------------------&gt;| 00000708 0201b44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SAPI=00 TEI=00 CRL=02 CR=01b4   | 0802819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40:05Z</dcterms:created>
  <dc:creator>Jerry Joo</dc:creator>
  <dc:description/>
  <dc:language>en-US</dc:language>
  <cp:lastModifiedBy>Axel</cp:lastModifiedBy>
  <dcterms:modified xsi:type="dcterms:W3CDTF">2004-02-10T16:00:46Z</dcterms:modified>
  <cp:revision>161</cp:revision>
  <dc:subject/>
  <dc:title>PowerPoint 프레젠테이션</dc:title>
</cp:coreProperties>
</file>