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8D9-5CE5-42B7-AFBC-DA502679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8DE8-0543-43BB-9C84-F97E364F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FEC-A1AF-4301-A81C-3CD244B1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8C5-0DAA-4D93-B727-A3D00E28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DA0-2E56-439B-8D66-B67F1826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F2B-86F0-447E-92E9-97BFAFF6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8AB-BCEC-4A2B-808C-068B311B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286-5985-4629-84FB-8510E373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BFB-91BA-477C-88ED-A3BA557C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608-1918-4B97-A0CC-883C93BD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C3D-A18A-413D-B316-5E15555E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9D3-A911-4F9B-83AB-CF4A0A07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D10B-D751-4EFD-A6D1-84722AD57B6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2280" y="181080"/>
            <a:ext cx="8839440" cy="6634080"/>
            <a:chOff x="152280" y="181080"/>
            <a:chExt cx="8839440" cy="6634080"/>
          </a:xfrm>
        </p:grpSpPr>
        <p:sp>
          <p:nvSpPr>
            <p:cNvPr id="6" name=""/>
            <p:cNvSpPr/>
            <p:nvPr/>
          </p:nvSpPr>
          <p:spPr>
            <a:xfrm>
              <a:off x="152280" y="60336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" name=""/>
            <p:cNvGraphicFramePr/>
            <p:nvPr/>
          </p:nvGraphicFramePr>
          <p:xfrm>
            <a:off x="157320" y="6357960"/>
            <a:ext cx="2447640" cy="457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7320" y="6357960"/>
                      <a:ext cx="24476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152280" y="624852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335720" y="6327720"/>
              <a:ext cx="184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280" y="181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35760" y="2937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DIgitalNetworkingLeader글자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2666880" cy="585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862360" y="4932360"/>
            <a:ext cx="3462120" cy="901800"/>
            <a:chOff x="2862360" y="4932360"/>
            <a:chExt cx="3462120" cy="901800"/>
          </a:xfrm>
        </p:grpSpPr>
        <p:graphicFrame>
          <p:nvGraphicFramePr>
            <p:cNvPr id="52" name=""/>
            <p:cNvGraphicFramePr/>
            <p:nvPr/>
          </p:nvGraphicFramePr>
          <p:xfrm>
            <a:off x="2862360" y="4932360"/>
            <a:ext cx="3429000" cy="806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4932360"/>
                      <a:ext cx="342900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3733920" y="5497560"/>
              <a:ext cx="259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362320" y="2133720"/>
            <a:ext cx="5790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Next Generation Communication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S1000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326840" y="4506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2003.0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6335640" y="7621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Installation and Upgra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8040" y="76320"/>
            <a:ext cx="42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IO and LAN port usa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212760" y="849240"/>
            <a:ext cx="7178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have 1 LAN(10 base T) port and 4 SIO port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fault 4 SIO ports u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새굴림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(IOT 1) on left panel : for system monitor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새굴림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(IOT 2) on left panel : for external V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새굴림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(CN 4) on IOTU : for PMS/SMD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 user can assign the SIO ports and LAN port for other service by followed procedure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to CP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2) go to CONFIG menu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3) select the menu 1.10 Config File Mak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4) make configu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5) save the configuration to file by save button(config.sy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6) execute the FTP File Manager in Tool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7) connect to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8) upload the config.sys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9) disconnect the FTP File Manag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0) close the FTP File Manag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1) restart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PE01832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744640" cy="2508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626440" y="1844640"/>
            <a:ext cx="350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If there is any config.sys file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all default usage of SIO will be ignor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8400" y="76320"/>
            <a:ext cx="70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Off Line Data Generation(Virtual CS1000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o1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810240" cy="1400040"/>
          </a:xfrm>
          <a:prstGeom prst="rect">
            <a:avLst/>
          </a:prstGeom>
          <a:ln w="0">
            <a:noFill/>
          </a:ln>
        </p:spPr>
      </p:pic>
      <p:pic>
        <p:nvPicPr>
          <p:cNvPr id="159" name="o2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4353120" cy="3476880"/>
          </a:xfrm>
          <a:prstGeom prst="rect">
            <a:avLst/>
          </a:prstGeom>
          <a:ln w="0">
            <a:noFill/>
          </a:ln>
        </p:spPr>
      </p:pic>
      <p:pic>
        <p:nvPicPr>
          <p:cNvPr id="160" name="03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4267080" cy="2590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343400" y="1143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 system manager can generate the customer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 his office even through he don’t have the syste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8400" y="7632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Network Synchronization Ru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365040" y="838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89080" y="1049400"/>
            <a:ext cx="8597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ngular Sync. Master Use C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the outside clock from the pre assigned local board, if the local board reports Sync-fai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CPM, the local board will receive the Sync. Slave command from CPM and CPM will use own clo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mmediate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own clock, if the Board reports Sync-recover to CPM, CPM will wait about 7sec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or the time, if the local board don’t report Sync-fail to CPM any more, the local board will receive th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nc. Master command from CPM and CPM will use the outside clock from the local boar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285840" y="3206880"/>
            <a:ext cx="85978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lural Sync. Master Use C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the outside clock from the local board having the first priority, if the local board repor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nc-fail to CPM, the local board will receive the Sync. Slave command from CPM immediately and th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cal board having the second priority will receive the Sync. Master command in 5secs and CPM will use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outside clock from the new master local board immediate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the outside clock from the new master local board, if the local board having the firs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iority reports Sync-recover to CPM, CPM will wait about 30sec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or the time, if the local board don’t report Sync-fail to CPM any more, the local board will receive th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nc. Master command from CPM and the local board having the second priority receive at the sam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ime. And the CPM will use the outside clock from the local board having the first priorit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PM Duplication 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852480"/>
            <a:ext cx="868680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Precondition  to make the activation of the duplication 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both CPM should have same IP address and MAC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the system should have CS1000.D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3) After the standby CPM inserts, should wait about one minute until the standby CPM read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CS1000.DT and FUNC.DT. Also you should do when you orders the make_seed to CP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by OM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When the standby CPM completes to read the data seed files, you will see the change of th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status LED in front of CP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 </a:t>
            </a: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Range :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just only 1st convers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Notices :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If you want to restart the system having CPM duplication, you should press not the standby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reset button but the active CPM reset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If you want to discard the active CPM, you should push the disk access stick in front of CP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to the disable status direc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PM Duplication 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jec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1st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293760" y="914400"/>
            <a:ext cx="381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Preparing process of the the duplication 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ower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O to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8195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gin ID &amp;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28195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P&amp;MAC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ait…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2819520"/>
            <a:ext cx="3047760" cy="83808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ss the reset butt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f the active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jec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2nd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8195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ait…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038480"/>
            <a:ext cx="1523880" cy="838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P&amp;MAC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114800"/>
            <a:ext cx="3047760" cy="83808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ss the reset butt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f the active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41148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ait…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562720"/>
            <a:ext cx="6248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* Wait….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  : Until the status LED of the restarting CPM moves fro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            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top to botto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Day/Night Mo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741240"/>
            <a:ext cx="8686800" cy="53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Automatic Day/Night Mode Change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by Night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Should set the Night Bar Use Option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in OMS Menu 16.3 Night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by ATD Night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Should reset the Night Bar Use Option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in OMS Menu 16.3 Night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Manual Day/Night Mode Change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by feature code of AT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ay Mode Set    : Admin + 4 + 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ight Mode Set  : Admin + 4 +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by feature code of predefined extens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ay Mode Set    : *62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ight Mode Set  : *6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Verify the system Mode in LCD of AT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1522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coming Digit Modification 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Rem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lexible DD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I0" descr=""/>
          <p:cNvPicPr/>
          <p:nvPr/>
        </p:nvPicPr>
        <p:blipFill>
          <a:blip r:embed="rId1"/>
          <a:stretch/>
        </p:blipFill>
        <p:spPr>
          <a:xfrm>
            <a:off x="228600" y="2019240"/>
            <a:ext cx="4343400" cy="4000680"/>
          </a:xfrm>
          <a:prstGeom prst="rect">
            <a:avLst/>
          </a:prstGeom>
          <a:ln w="0">
            <a:noFill/>
          </a:ln>
        </p:spPr>
      </p:pic>
      <p:pic>
        <p:nvPicPr>
          <p:cNvPr id="191" name="I1" descr=""/>
          <p:cNvPicPr/>
          <p:nvPr/>
        </p:nvPicPr>
        <p:blipFill>
          <a:blip r:embed="rId2"/>
          <a:stretch/>
        </p:blipFill>
        <p:spPr>
          <a:xfrm>
            <a:off x="4648320" y="2019240"/>
            <a:ext cx="43434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1522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coming Digit Modification 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Rem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lexible DD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6" name="I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1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5486400" cy="4038480"/>
          </a:xfrm>
          <a:prstGeom prst="rect">
            <a:avLst/>
          </a:prstGeom>
          <a:ln w="0">
            <a:noFill/>
          </a:ln>
        </p:spPr>
      </p:pic>
      <p:pic>
        <p:nvPicPr>
          <p:cNvPr id="198" name="2" descr=""/>
          <p:cNvPicPr/>
          <p:nvPr/>
        </p:nvPicPr>
        <p:blipFill>
          <a:blip r:embed="rId2"/>
          <a:stretch/>
        </p:blipFill>
        <p:spPr>
          <a:xfrm>
            <a:off x="5715000" y="2057400"/>
            <a:ext cx="3336840" cy="4084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1522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coming Digit Modification 3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Rem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lexible DD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5520" y="9036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stallation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HW 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S232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Emulator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Execu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ower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gin ID &amp;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skOnChi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ff Line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By Ctrl-Z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 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loa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3048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stem Set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formation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1.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s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s Init. I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2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191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Holiday Set b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pop-up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191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Number P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by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Automati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Pop-up Men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191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cal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ata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2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4191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runk Acces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de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4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25780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C Digit Remov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unt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4.3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525780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thers Dat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each Men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2578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52578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Back-Up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S1000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figu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191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runk Outgo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Group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4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ia SI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26668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the file s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60958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Network Sync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5257800"/>
            <a:ext cx="2057400" cy="83808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te History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istory Manag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6960" y="9036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Upgrade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load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func.d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mpatibil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  <a:ea typeface="새굴림"/>
              </a:rPr>
              <a:t>X change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pmstx.dq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724280"/>
            <a:ext cx="1523880" cy="838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pply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2670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the file s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904040" y="1235160"/>
            <a:ext cx="221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s there any specia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NOT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or this version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BD04924_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34600" y="990720"/>
            <a:ext cx="255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 must 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release notice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know what is different fro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vious vers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BD00028_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862200" cy="84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ew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Version Rele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724280"/>
            <a:ext cx="2057400" cy="83844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te History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istory Manag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724280"/>
            <a:ext cx="1981080" cy="8384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W Status Che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Version Check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7242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191120"/>
            <a:ext cx="2286000" cy="52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grade(v3.20Xx or below  -&gt; v3.25 or ab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040" y="7632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PM Memory Descrip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" y="887400"/>
            <a:ext cx="736596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Boot PROM 4 M bit : Monitor Program for Off Line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one PROM 4 M bit : Call Processing Tone Resource + DTMF Resour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RAM 16 M byte : OS + S/W + User Data Base + Working Data Base + Stack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iskOnChip 8M byte or 16M byte with File Syst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: All System Fi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NVRAM in Clock Chip 50 byte : Network Configure Inform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RAM 0 M by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4800" y="763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Fil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762120"/>
            <a:ext cx="85341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cs1000.dt    : back up file for data generated by OMS manually. (numbering plan, LCR, speed code..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func.dt         : back up file for data generated by user automatically when the user uses some featur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(call forward, wake up, message wait….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dconf.dt      : back up file for data generated in part of OMS diagnosis manual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acdgen.dt    : back up file for data generated by ACD Manager manually. (CCV, agent info…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speed.dt      : special back up file for only speed cod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lcr.dt            : special back up file for only LCR info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upgrade.dt  : back up file for all kind of data in func.dt. (will include flex.dt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sk Queue Fil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fault.dq        : system fault message queue for communication with OM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netft.dq        : slave system fault message queue for communication with OMS.(Centralized Alar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pmxtx.dq     : PMS TX message queue for HOTEL Service and SMDA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smda2.dq    : Duplicated SMDA TX message queu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config.sys    : system initial configuration file for VMS, SMDA, ANI info…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914400"/>
            <a:ext cx="83055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$ di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in drive DiskOnChip has no lab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Serial Number is no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irectory of DiskOnChip:\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pm.img             3560592  01-31-2002 17:23:1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mstx.dq            1000016  01-31-2002 17:26:1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ault.dq                    2416  02-01-2002 17:44:0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unc.dt                 932989  02-01-2002 17:03:1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conf.dt                  2096   02-01-2002 17:46:0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s1000.dt              59626   02-01-2002 10:30:19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6 file(s)    5557735 byt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0 dir(s)     2562048 bytes fre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otal = about 8M by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7320" y="763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DiskOnChip (8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884160"/>
            <a:ext cx="655308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$ di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in drive DiskOnChip has no lab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Serial Number is no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irectory of DiskOnChip:\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pm.img             4709808  12-08-2003 17:13: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s1000.dt               98749  12-08-2003 17:19:0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mstx.dq            2400016  12-23-2003 14:08: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ault.dq                    2416  12-29-2003 10:56: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netft.dq                  28016  12-22-2003 15:22:2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mda2.dq            2400016  11-15-2003 10:32:1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unc.dt                  933228  12-23-2003 17:32: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conf.dt                   2096  12-23-2003 14:08:3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onfig.sys                    22  11-15-2003 11:05:2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9 file(s)    10574367 byt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0 dir(s)     5724160 bytes fre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otal = about 16M by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57320" y="7632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DiskOnChip (16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6960" y="7632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FTP Manag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ftp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800" y="76320"/>
            <a:ext cx="39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Initial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762120"/>
            <a:ext cx="2286000" cy="2286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066680"/>
            <a:ext cx="2286000" cy="1447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S load to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.img load to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fig.sys rea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conf.dt read or creation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ault.dq creation or not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mstx.dq creation or not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mda2.dq creation or not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666880"/>
            <a:ext cx="2286000" cy="228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otection Data Base Init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048120"/>
            <a:ext cx="2210040" cy="533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S1000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733920"/>
            <a:ext cx="2286000" cy="53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ad CS1000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otection Data Base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5791320"/>
            <a:ext cx="2286000" cy="228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orking Data Base Init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1981080"/>
            <a:ext cx="220968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S1000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2743200"/>
            <a:ext cx="228600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ad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orking Data Base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581280"/>
            <a:ext cx="175248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495680"/>
            <a:ext cx="175248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rea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220968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UNC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657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1752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7924680" y="3276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5029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1447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5791320"/>
            <a:ext cx="2743200" cy="304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all Main() 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060560" y="3200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6546960" y="1523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768996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4419720"/>
            <a:ext cx="2210040" cy="533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CDGEN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5105520"/>
            <a:ext cx="2286000" cy="53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ad CS1000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CD Data Base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0:40:05Z</dcterms:created>
  <dc:creator>Jerry Joo</dc:creator>
  <dc:description/>
  <dc:language>en-US</dc:language>
  <cp:lastModifiedBy>jmchoi</cp:lastModifiedBy>
  <dcterms:modified xsi:type="dcterms:W3CDTF">2004-01-16T06:57:27Z</dcterms:modified>
  <cp:revision>209</cp:revision>
  <dc:subject/>
  <dc:title>PowerPoint 프레젠테이션</dc:title>
</cp:coreProperties>
</file>