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22C-2B86-469C-9D4D-CDF82C8B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883-3FBA-4777-B1B1-DEFDDD6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542-0ACA-428B-AB18-EF042D2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3F9-E462-4328-A335-2DEF76A7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2C6-E52A-42B0-9363-F7C78250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7F4-98ED-4982-BC92-BEF0A19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0EB-5FEC-4705-932D-46F1485C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C09-0631-45F9-A055-7E405582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4BF-2FBB-4536-8B4F-DDF87FD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F34-235C-42C3-B5E0-24C07EB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B3D-3C9F-4353-BC79-83D001B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ABE-BA6C-4827-BCEA-DAE44CE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B941-84EA-42BD-B6B2-017678959C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4:37:35Z</dcterms:created>
  <dc:creator>jmchoi</dc:creator>
  <dc:description/>
  <dc:language>en-US</dc:language>
  <cp:lastModifiedBy>jmchoi</cp:lastModifiedBy>
  <dcterms:modified xsi:type="dcterms:W3CDTF">2004-01-16T06:56:38Z</dcterms:modified>
  <cp:revision>2</cp:revision>
  <dc:subject/>
  <dc:title>PowerPoint 프레젠테이션</dc:title>
</cp:coreProperties>
</file>